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777-A589-43F7-A03B-5284E935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50FB-2FE1-4F5F-AEDC-A14046E4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FF0-07B2-4C57-BDDB-7259307F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801-1B85-401E-B051-D69A7E51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DA4-7D54-4170-BDC3-85DA8D4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643-068B-49D5-AFFE-6C4996D1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B94-DEAC-463A-9929-F661569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B2A-8F88-4381-A2DB-76C6D42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5E5-EB98-43C7-8FB4-30AB5ED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659-AB68-4011-BB2A-A240685D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E29-DCF8-4E50-A2C6-12D8DEA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7D5-560B-4BFB-A7B6-3163E6C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3C2-CEB5-46F6-8A27-0CEA951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5E1-7ACE-406F-9D3D-451CD04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85A-9301-4DA2-9360-56CD23E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BB8F-0170-41C5-958A-AEB2D1CB7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Daniel D. Robson</cp:lastModifiedBy>
  <dcterms:modified xsi:type="dcterms:W3CDTF">2011-10-25T01:36:14Z</dcterms:modified>
  <cp:revision>29</cp:revision>
  <dc:subject/>
  <dc:title>Witchcraft</dc:title>
</cp:coreProperties>
</file>